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77320" y="912960"/>
            <a:ext cx="7040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The French Revolution and Napoleon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789–1815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1936800"/>
            <a:ext cx="636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French Revolution establishes a new political order, Napoleon Bonaparte gains and loses an empire, and European states forge a balance of pow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76240" y="1827360"/>
            <a:ext cx="47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Assembly Reforms Franc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9080" y="941400"/>
            <a:ext cx="4900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Revolution Brings Reform</a:t>
            </a:r>
            <a:br>
              <a:rPr sz="3000"/>
            </a:b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and Terror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73360" y="2403360"/>
            <a:ext cx="5864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ights of 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Assembly adopts Declaration of the Righ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Man and of the Citi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olutionary leaders use the slogan, “Libert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ality, Fraternit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3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73360" y="3933720"/>
            <a:ext cx="5810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ate-Controlled 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Assembly seizes church lands, turns cler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o public offic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action alarms many peasants, who are dev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hol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uis Tries to Esc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uis, worried about his future, attempt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cap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olutionaries catch the royal family ne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’ b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4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79120" y="159372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Assembly Reforms Franc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74080" y="159876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Divisions Develop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73360" y="2174760"/>
            <a:ext cx="57211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imited Mon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September 1791, Assembly finishes ne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it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Legislative Assemb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new body created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ss la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5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73360" y="3718080"/>
            <a:ext cx="60894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ctions Split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problems, including debt, food shortages re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mbly split into Radicals, Moderat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erv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Émigré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nobles who flee country, want O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gime back in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Sans-culot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lower class who want more chan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the Rev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s with Other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rians and Prussians want Louis in charg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ce; France declares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5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73360" y="3157560"/>
            <a:ext cx="57369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nce at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ussian forces soon threaten to attack P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isian mob jails royal family, kills gu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b breaks into prisons, killing over 1,000, inclu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who support 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sured by mob, Legislative Assembly depo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king and then disso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Convention takes office in Septemb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ing French republ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73360" y="159372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War and Execution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cobins Tak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acob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radical political organization behi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792 governmental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ter a close vote, Louis XVI is found guilty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ason and behead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uillotine—machine designed during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olution to behead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78400" y="1690560"/>
            <a:ext cx="28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War and Execution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73360" y="424332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War Conti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nch army wins great victory against Prussi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Austr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793 Britain, Spain, Holland join forces again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Convention orders draft of 300,000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inforce arm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73360" y="159876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Terror Grips Franc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73360" y="2174760"/>
            <a:ext cx="5816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ded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all people in France support all changes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8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73360" y="3138480"/>
            <a:ext cx="5736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bespierre Assumes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aximilien Robespier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Jacobin leader ru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ce for a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omes leader of the Committee for Public Safet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ict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Reign of T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Robespierre’s rule,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es killing many op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ousands die during the Terror, including form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ies and Marie Antoin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5 percent of those who die during the Terror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dle or lower cl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72640" y="159876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End of the Terror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3360" y="2174760"/>
            <a:ext cx="5445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other Change in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July 1794, Robespierre arrested, exec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ror results in public opinion shifting away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dic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 leaders write new constit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-house legislature and five-man Directo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tore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government makes Napoleon Bonapar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ander of arm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9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370520" y="2486160"/>
            <a:ext cx="4850280" cy="1640520"/>
            <a:chOff x="1370520" y="2486160"/>
            <a:chExt cx="4850280" cy="1640520"/>
          </a:xfrm>
        </p:grpSpPr>
        <p:sp>
          <p:nvSpPr>
            <p:cNvPr id="196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0520" y="2867040"/>
              <a:ext cx="485028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Napoleon Forges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an Empire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Arial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370160" y="410040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poleon Bonaparte, a military genius, seizes power in France and makes himself empe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74080" y="182736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Napoleon Seizes Power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73360" y="2403360"/>
            <a:ext cx="578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rly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Napoleon Bonapar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born in Corsica, atten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litary school, joins ar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0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73360" y="3390840"/>
            <a:ext cx="5788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ro of the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795, Napoleon defeats royalist rebels attac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poleon wins stunning victories in Italy, gai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s of his defeats in Egypt is supp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69800" y="885960"/>
            <a:ext cx="534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Napoleon Forges an Empire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73360" y="519588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p d’É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November 1799, he carries out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oup d’ét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izure of p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poleon defeats British, Russians, Austrians wh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in forces against h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75160" y="159876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Napoleon Rules Franc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e of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constitution is approved throu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lebisc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vote of the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1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773360" y="3146400"/>
            <a:ext cx="58737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toring Order at 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fix economy, he sets up national ban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, efficient tax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ablish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lycé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government-run publ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ools to train offic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oncord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greement—with po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toring Catholicism in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Napoleonic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uniform system of la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73360" y="549108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poleon Crowned as Empe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December 1804, Napoleon crowns him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eror of Fr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7320" y="912960"/>
            <a:ext cx="7040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The French Revolution and Napoleon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789–1815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46240" y="251136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2046240" y="30733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2046240" y="360684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2046240" y="414036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5520" y="2502000"/>
            <a:ext cx="367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rench Revolution Beg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42640" y="3078000"/>
            <a:ext cx="44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volution Brings Reform and Terr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5520" y="3591000"/>
            <a:ext cx="34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poleon Forges an Emp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6240" y="4129200"/>
            <a:ext cx="35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poleon’s Empire Collap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46240" y="46735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45880" y="466236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gress of Vi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75160" y="1598760"/>
            <a:ext cx="44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Napoleon Creates an Empir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ss of American Terri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01, Napoleon attempts to retake colony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int Domingue but f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ves up on the Americas and concentrates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ls the Louisiana Territory to United State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 million in 18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3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773360" y="422424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quering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ain, Russia, Austria, Sweden join forces again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pole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poleon crushes enemy forces in several brilli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tt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poleon forces Austria, Russia, Sweden to sig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ace trea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73360" y="2174760"/>
            <a:ext cx="5445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Battle of Trafal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05, British w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Battle of Trafalg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ens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ish naval supe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efeat forces Napoleon to give up pla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ading Bri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oks for another way to control Bri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4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773360" y="396720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rench Emp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poleon controls Europe except for Brita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ugal, Sweden, Ottom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 puppet rulers in some countries, alliance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nch Empire reaches largest extent from 1807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79840" y="169056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Napoleon Creates an Empire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370880" y="2486160"/>
            <a:ext cx="5357880" cy="1640520"/>
            <a:chOff x="1370880" y="2486160"/>
            <a:chExt cx="5357880" cy="1640520"/>
          </a:xfrm>
        </p:grpSpPr>
        <p:sp>
          <p:nvSpPr>
            <p:cNvPr id="247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70880" y="2867040"/>
              <a:ext cx="535788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Napoleon’s Empire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Collapses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Arial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370160" y="416736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poleon’s conquests aroused nationalistic feelings across Europe and contributed to his downf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69440" y="941400"/>
            <a:ext cx="56412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Napoleon’s Empire Collapses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73360" y="2403360"/>
            <a:ext cx="5788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inent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poleon strikes Britain through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block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forc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osing of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Continental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economic plan to strengt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, weaken Bri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mugglers and uncooperative allies make France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lockade f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ain responds with blockade of its own, led by 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ronger nav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ericans fight Britain in War of 1812; war does 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damage to Brit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5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74080" y="1827360"/>
            <a:ext cx="42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Napoleon’s Costly Mistake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74800" y="2174760"/>
            <a:ext cx="546588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eninsular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poleon sends troops across Spain to atta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ugal, causing pro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poleon makes his brother king of Spa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ing things wo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nish fight a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guerrill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small groups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acked and then disapp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ish aid Spanish guerril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poleon loses 300,000 soldiers during th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eninsular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ist rebels fight the French in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quered territo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6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80560" y="1690560"/>
            <a:ext cx="36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Napoleon’s Costly Mistakes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74800" y="2174760"/>
            <a:ext cx="546588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Invasion of Ru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 with Russia break down, Napole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des to inv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June 1812, Napoleon’s army marches i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ssia with 420,000 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ssians us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corched-earth poli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oying crops, live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September 1812, Russians retreat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cow after Battle of Borod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poleon finds Moscow abandoned and bu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poleon retreats, losing thousands of soldier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ids, cold wea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7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780560" y="1690560"/>
            <a:ext cx="36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Napoleon’s Costly Mistakes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72640" y="159876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Napoleon’s Downfall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poleon Suffers Def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ain, Prussia, Sweden, Russia, Austria jo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ces against Napole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poleon raises another army, but meets qui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at by allie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poleon finally surrenders and is exiled to isl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El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8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774800" y="423216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Hundred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uis XVIII, new king, is soon overthrown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poleon returns from ex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aterlo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British, Prussian forces defe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poleon’s ar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efeat e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Hundred Da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Napoleon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st attempt at p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370160" y="2486160"/>
            <a:ext cx="6883200" cy="1057680"/>
            <a:chOff x="1370160" y="2486160"/>
            <a:chExt cx="6883200" cy="1057680"/>
          </a:xfrm>
        </p:grpSpPr>
        <p:sp>
          <p:nvSpPr>
            <p:cNvPr id="293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70160" y="2867040"/>
              <a:ext cx="688320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Congress of Vienna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Arial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370160" y="359568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exiling Napoleon, European leaders at the Congress of Vienna try to restore order and reestablish pe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72280" y="182736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69440" y="941400"/>
            <a:ext cx="46476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Congress of Vienna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73360" y="2403360"/>
            <a:ext cx="578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Meeting of N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ongress of Vien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series of meetings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hape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71920" y="182736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Metternich’s Plan for Europ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73360" y="33861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ternich and the Great Po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emens von Metternich—foreign minist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ria, influential at Cong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Balance of p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 chief Metternich goal, with 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country a thr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06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5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ontainment of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ingdom of the Netherlands formed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itzerland made indepen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ria dominates new German Confedera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9 German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ingdom of Sardinia is strengthened by ad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74800" y="4241880"/>
            <a:ext cx="5465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of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an powers weaken France but leave 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ly i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16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781280" y="169056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Metternich’s Plan for Europe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370520" y="2486160"/>
            <a:ext cx="6374160" cy="1640520"/>
            <a:chOff x="1370520" y="2486160"/>
            <a:chExt cx="6374160" cy="1640520"/>
          </a:xfrm>
        </p:grpSpPr>
        <p:sp>
          <p:nvSpPr>
            <p:cNvPr id="63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0520" y="2867040"/>
              <a:ext cx="637416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French Revolution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Begins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Arial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376280" y="4160880"/>
            <a:ext cx="64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ic and social inequalities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 Regime help cause the French Rev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73360" y="2174760"/>
            <a:ext cx="5445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gitim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Legitima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monarchs deposed by Napole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returned to th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ers hope to restore order through the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gress of Vienna succeeds in getting 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an governments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ir deals are worked out so that the mee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lead to more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an nations agree to preserve peac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ch lasts almost 40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26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781280" y="169056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Metternich’s Plan for Europe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73360" y="159876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olitical Changes Beyond Vienna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ervative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Holy Alli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Russia, Prussia, Austria pled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fight r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oncert of Eur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European nations pledg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lp fight rev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ervative governments rule across Europ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 new ideas have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36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773360" y="42339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volutions in Latin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poleon’s replacing king of Spain set off rebell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Spanish Ame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ormer colonies of Spain and Portugal g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73360" y="575784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Leg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ain, Prussia gain power; spreading nationalis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s to revolu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05160" y="1274760"/>
            <a:ext cx="5457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71920" y="182736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Old Order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70160" y="941400"/>
            <a:ext cx="57906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French Revolution Begins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73360" y="2403360"/>
            <a:ext cx="56671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Old Reg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Old Reg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social and political system in Fr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uring the 177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Esta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three social classes of France’s O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g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7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73360" y="3936960"/>
            <a:ext cx="5808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ivileged E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rst Estate—Catholic clergy—own 10 percent lan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y few t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ond Estate—rich nobles—2 percent popul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wn 20 percent 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773360" y="217476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ird E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97 percent of people are peasants, urban worker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ddl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few privileges, pay heavy taxes, want chan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79120" y="1593720"/>
            <a:ext cx="23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Old Order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74080" y="159876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Forces of Chang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73360" y="2174760"/>
            <a:ext cx="573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lightenment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lightenment ideas inspire some in Thi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73360" y="287964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Tro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axes and rising costs damage economy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78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ing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Louis XV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his wif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arie Antoinet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nown for extravag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uis doubles nation’s debt; banks refuse to l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mo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3360" y="4946760"/>
            <a:ext cx="58212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Weak 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uis’s poor decisions and lack of patience add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ce’s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 call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Estates-Gene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meeting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resentatives from all three est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71920" y="1598760"/>
            <a:ext cx="36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Dawn of the Revolution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0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773360" y="2174760"/>
            <a:ext cx="5736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National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rd Estate has little power under old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eyès persuades them to make major change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nch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rd Estate sets up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National Assemb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ne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islature to make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ennis Court O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delegates decide to write ne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itution for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73360" y="452772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orming the Bast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mors fly in Paris that Louis wants to suppr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b attacks and seizes Bastille, killing guards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 14, 178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74800" y="159876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 Great Fear Sweeps Franc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1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773360" y="2174760"/>
            <a:ext cx="607536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bell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umors and panic spread throughout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Great F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attacks by peasants taking place acro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asants destroy legal papers binding them to feud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October 1789, Parisian women revolt over ri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ce of b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y demand action, forcing Louis to return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ailles to Par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0160" y="3968640"/>
            <a:ext cx="59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volutionary government of France makes reforms but also uses terror and violence to retain pow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70160" y="2397240"/>
            <a:ext cx="6800400" cy="1581480"/>
            <a:chOff x="1370160" y="2397240"/>
            <a:chExt cx="6800400" cy="1581480"/>
          </a:xfrm>
        </p:grpSpPr>
        <p:sp>
          <p:nvSpPr>
            <p:cNvPr id="121" name=""/>
            <p:cNvSpPr/>
            <p:nvPr/>
          </p:nvSpPr>
          <p:spPr>
            <a:xfrm>
              <a:off x="1370160" y="2397240"/>
              <a:ext cx="43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70160" y="2787480"/>
              <a:ext cx="6800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Revolution Brings Reform and Terror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Arial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Amy Kalas</cp:lastModifiedBy>
  <cp:lastPrinted>2003-11-12T20:33:16Z</cp:lastPrinted>
  <dcterms:modified xsi:type="dcterms:W3CDTF">2007-11-30T03:27:19Z</dcterms:modified>
  <cp:revision>859</cp:revision>
  <dc:subject/>
  <dc:title>No Slide Title</dc:title>
</cp:coreProperties>
</file>